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WHOOSH.WAV" ContentType="audio/x-wav"/>
  <Override PartName="/ppt/media/CHIMES.WAV" ContentType="audio/x-wav"/>
  <Override PartName="/ppt/media/DRIVEBY.WAV" ContentType="audio/x-wav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2ED-A8AD-46D6-8DB5-B8628A52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673-1171-4E3D-9775-9CCD1EC4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33C-419A-421F-8A6C-C9AC250B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223-FB15-447C-B2B1-B2B9FF59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F51-9243-4456-8BEA-2DF318F0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F63-541E-4FFB-9797-93BBF2C9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D0D-5065-4C62-9B19-5F2C78E8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A38-41FB-496F-8C94-3C7C39E7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7E3-35B3-42DD-AB87-A4EFB2EC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AE3-8108-4F83-BB6B-E55A2839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D6C-C584-4F69-A231-37824B0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723-D942-40A7-852D-2F94AD06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BAC0-B1A3-48A7-9BCE-073C015A9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GRAPHING LINEAR FUNCTIONS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228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09680" y="1066680"/>
                <a:ext cx="1849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00600" y="106668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ubtract 3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676520"/>
                <a:ext cx="1822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876920" y="167652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895480" y="2362320"/>
                <a:ext cx="1841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04920" y="3657600"/>
            <a:ext cx="4952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gradient is – 3  a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ntercept is –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05520" y="274320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4320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72160" y="4614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19760" y="485316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4876920"/>
            <a:ext cx="0" cy="60948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72400" y="527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6210360" y="3733920"/>
            <a:ext cx="990720" cy="220968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4191120"/>
            <a:ext cx="5335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7880" y="373392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2200" y="2400480"/>
            <a:ext cx="1238400" cy="4950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28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473200" y="1109520"/>
                <a:ext cx="1366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33520" y="1066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99072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ubtract 4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62360" y="1619280"/>
                <a:ext cx="1670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4800600" y="1523880"/>
            <a:ext cx="3886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30680" y="2438280"/>
                <a:ext cx="187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33520" y="3794040"/>
            <a:ext cx="4724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gradient is 4 and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ntercept is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248440" y="327672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327672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6715080" y="49197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29360" y="4029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Multiply both sides by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989440" y="2971800"/>
                <a:ext cx="1554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858000" y="515772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172280" y="4262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614640" y="3886200"/>
            <a:ext cx="685800" cy="198108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4840" y="2933640"/>
            <a:ext cx="1238040" cy="49536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7400" y="380988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0680" y="434340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09480" y="228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444760" y="1109520"/>
                <a:ext cx="1425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1066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990720"/>
            <a:ext cx="40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dd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o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962440" y="1619280"/>
                <a:ext cx="146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800600" y="16002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971800" y="2438280"/>
                <a:ext cx="146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2" name=""/>
          <p:cNvGraphicFramePr/>
          <p:nvPr/>
        </p:nvGraphicFramePr>
        <p:xfrm>
          <a:off x="5248440" y="327672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327672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400800" y="44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24680" y="40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24051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ivide both sides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021120" y="2844720"/>
                <a:ext cx="1752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304920" y="4724280"/>
            <a:ext cx="4724280" cy="1236600"/>
            <a:chOff x="304920" y="4724280"/>
            <a:chExt cx="4724280" cy="1236600"/>
          </a:xfrm>
        </p:grpSpPr>
        <p:sp>
          <p:nvSpPr>
            <p:cNvPr id="349" name=""/>
            <p:cNvSpPr/>
            <p:nvPr/>
          </p:nvSpPr>
          <p:spPr>
            <a:xfrm>
              <a:off x="304920" y="4800600"/>
              <a:ext cx="4724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refore, the gradient is    and th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intercept is 2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430880" y="4724280"/>
                  <a:ext cx="2934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1" name=""/>
          <p:cNvSpPr/>
          <p:nvPr/>
        </p:nvSpPr>
        <p:spPr>
          <a:xfrm>
            <a:off x="6553080" y="4638600"/>
            <a:ext cx="60984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172280" y="4343040"/>
            <a:ext cx="0" cy="30492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095520" y="3971880"/>
            <a:ext cx="1600200" cy="91440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2895480"/>
            <a:ext cx="1295280" cy="9144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57880" y="4724280"/>
            <a:ext cx="533160" cy="6858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09480" y="228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374920" y="1109520"/>
                <a:ext cx="156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533520" y="1066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990720"/>
            <a:ext cx="40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dd 2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o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006720" y="1619280"/>
                <a:ext cx="1612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4800600" y="16002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989440" y="2438280"/>
                <a:ext cx="1611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63" name=""/>
          <p:cNvGraphicFramePr/>
          <p:nvPr/>
        </p:nvGraphicFramePr>
        <p:xfrm>
          <a:off x="5248440" y="327672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327672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39144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38960" y="367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24051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ivide both sides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106800" y="2921040"/>
                <a:ext cx="17524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80880" y="4267080"/>
            <a:ext cx="4724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gradient is    and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cep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940200" y="4319640"/>
                <a:ext cx="2142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809800" y="4724280"/>
                <a:ext cx="217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6553080" y="4581360"/>
            <a:ext cx="91440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481880" y="39096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019560" y="3581280"/>
            <a:ext cx="1904760" cy="13716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4724280"/>
            <a:ext cx="533520" cy="60984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2895480"/>
            <a:ext cx="1143000" cy="9144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228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203560" y="1109520"/>
                <a:ext cx="1622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304920" y="1066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99072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ubtract 4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852640" y="1619280"/>
                <a:ext cx="1670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4800600" y="16002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6520" y="2438280"/>
                <a:ext cx="190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4" name=""/>
          <p:cNvGraphicFramePr/>
          <p:nvPr/>
        </p:nvGraphicFramePr>
        <p:xfrm>
          <a:off x="5248440" y="327672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327672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6386400" y="4224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19760" y="4867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24051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ivide both sides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921040" y="3022560"/>
                <a:ext cx="1839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80880" y="425124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gradient is – 2 and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cept is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445788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862680" y="443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67600" y="3962520"/>
            <a:ext cx="914400" cy="175248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81280" y="3048120"/>
            <a:ext cx="1447920" cy="53316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19520" y="464832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267080"/>
            <a:ext cx="45720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e wish to thank our supporters: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Graphing Straight Lines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922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This presentation looks at two methods for graphing a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743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By finding and plott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516480"/>
            <a:ext cx="6248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Using the gradient and the </a:t>
            </a:r>
            <a:r>
              <a:rPr b="0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intercept where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0" i="1" lang="en-US" sz="30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990099"/>
                </a:solidFill>
                <a:latin typeface="Times New Roman"/>
              </a:rPr>
              <a:t>mx </a:t>
            </a:r>
            <a:r>
              <a:rPr b="0" lang="en-US" sz="3000" spc="-1" strike="noStrike">
                <a:solidFill>
                  <a:srgbClr val="990099"/>
                </a:solidFill>
                <a:latin typeface="Times New Roman"/>
              </a:rPr>
              <a:t>+ </a:t>
            </a:r>
            <a:r>
              <a:rPr b="0" i="1" lang="en-US" sz="3000" spc="-1" strike="noStrike">
                <a:solidFill>
                  <a:srgbClr val="990099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57600" y="4430880"/>
            <a:ext cx="1981080" cy="1389240"/>
            <a:chOff x="3657600" y="4430880"/>
            <a:chExt cx="1981080" cy="1389240"/>
          </a:xfrm>
        </p:grpSpPr>
        <p:sp>
          <p:nvSpPr>
            <p:cNvPr id="48" name=""/>
            <p:cNvSpPr/>
            <p:nvPr/>
          </p:nvSpPr>
          <p:spPr>
            <a:xfrm flipV="1">
              <a:off x="4724280" y="4430880"/>
              <a:ext cx="914400" cy="53352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57600" y="4964400"/>
              <a:ext cx="1371600" cy="855720"/>
            </a:xfrm>
            <a:prstGeom prst="rect">
              <a:avLst/>
            </a:prstGeom>
            <a:noFill/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996633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996633"/>
                  </a:solidFill>
                  <a:latin typeface="Arial"/>
                </a:rPr>
                <a:t> is the grad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477120" y="4430520"/>
            <a:ext cx="1752480" cy="1427400"/>
            <a:chOff x="6477120" y="4430520"/>
            <a:chExt cx="1752480" cy="1427400"/>
          </a:xfrm>
        </p:grpSpPr>
        <p:sp>
          <p:nvSpPr>
            <p:cNvPr id="51" name=""/>
            <p:cNvSpPr/>
            <p:nvPr/>
          </p:nvSpPr>
          <p:spPr>
            <a:xfrm>
              <a:off x="6477120" y="5040360"/>
              <a:ext cx="1752480" cy="817560"/>
            </a:xfrm>
            <a:prstGeom prst="rect">
              <a:avLst/>
            </a:prstGeom>
            <a:noFill/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996633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996633"/>
                  </a:solidFill>
                  <a:latin typeface="Arial"/>
                </a:rPr>
                <a:t> is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6633"/>
                  </a:solidFill>
                  <a:latin typeface="Arial"/>
                </a:rPr>
                <a:t>y</a:t>
              </a:r>
              <a:r>
                <a:rPr b="0" lang="en-US" sz="2400" spc="-1" strike="noStrike">
                  <a:solidFill>
                    <a:srgbClr val="996633"/>
                  </a:solidFill>
                  <a:latin typeface="Arial"/>
                </a:rPr>
                <a:t>-inter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6553080" y="4430520"/>
              <a:ext cx="533520" cy="60948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plotting point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981080"/>
            <a:ext cx="3962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Choose values for </a:t>
            </a:r>
            <a:r>
              <a:rPr b="0" i="1" lang="en-US" sz="2600" spc="-1" strike="noStrike">
                <a:solidFill>
                  <a:srgbClr val="990099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 and find the corresponding value for </a:t>
            </a:r>
            <a:r>
              <a:rPr b="0" i="1" lang="en-US" sz="2600" spc="-1" strike="noStrike">
                <a:solidFill>
                  <a:srgbClr val="990099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429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(1) - 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38760" y="333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4038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(2) - 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40520" y="270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(-1) - 1 =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38840" y="460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900680" y="2422800"/>
            <a:ext cx="1704960" cy="2698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1814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information is often presented in tabl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9007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" y="5943600"/>
            <a:ext cx="2362320" cy="840600"/>
            <a:chOff x="457200" y="5943600"/>
            <a:chExt cx="2362320" cy="840600"/>
          </a:xfrm>
        </p:grpSpPr>
        <p:sp>
          <p:nvSpPr>
            <p:cNvPr id="87" name=""/>
            <p:cNvSpPr/>
            <p:nvPr/>
          </p:nvSpPr>
          <p:spPr>
            <a:xfrm>
              <a:off x="514440" y="6186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6240" y="5943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5943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6324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7920" y="5943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47920" y="6324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5943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81080" y="6286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" y="6343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124080" y="3352680"/>
            <a:ext cx="762120" cy="53352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4038480"/>
            <a:ext cx="762120" cy="53352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– x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98108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Choose values for </a:t>
            </a:r>
            <a:r>
              <a:rPr b="0" i="1" lang="en-US" sz="2200" spc="-1" strike="noStrike">
                <a:solidFill>
                  <a:srgbClr val="990099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 and find the corresponding value for </a:t>
            </a:r>
            <a:r>
              <a:rPr b="0" i="1" lang="en-US" sz="2200" spc="-1" strike="noStrike">
                <a:solidFill>
                  <a:srgbClr val="990099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200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(1) +2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30840" y="3338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809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(2) +2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37280" y="3660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(-1) +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5600" y="270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76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(3) +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48400" y="3968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6386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8520" y="2743200"/>
            <a:ext cx="2362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plotting point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3200400"/>
            <a:ext cx="7621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3809880"/>
            <a:ext cx="7621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4343400"/>
            <a:ext cx="7621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4876920"/>
            <a:ext cx="7621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152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using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dient and the </a:t>
            </a:r>
            <a:r>
              <a:rPr b="0" i="1" lang="en-US" sz="30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32640" y="3965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67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3432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28702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4290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lace a point 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2320" y="4618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419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A gradient of 2 is a rise of 2 over a run o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846680"/>
            <a:ext cx="380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75200" y="4181040"/>
            <a:ext cx="0" cy="68580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334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gives us the point (1, –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160" y="2286000"/>
            <a:ext cx="1981080" cy="312408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36232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289548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52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using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dient and the </a:t>
            </a:r>
            <a:r>
              <a:rPr b="0" i="1" lang="en-US" sz="30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965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5520" y="4297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67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23432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28702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4290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lace a point 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7000" y="3008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4197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A gradient of –4 is a drop of 4 over a run o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3247920"/>
            <a:ext cx="380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334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gives us the point (1, –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75200" y="3232080"/>
            <a:ext cx="0" cy="129564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0480" y="1981080"/>
            <a:ext cx="990720" cy="320040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236232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89548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152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using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dient and the </a:t>
            </a:r>
            <a:r>
              <a:rPr b="0" i="1" lang="en-US" sz="30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30840" y="4930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7652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23432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28702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4290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lace a point 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000" y="4618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44197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A gradient of –1 is a drop of 1 over a run o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4851360"/>
            <a:ext cx="380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5334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gives us the point (1, –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80240" y="4843440"/>
            <a:ext cx="0" cy="30492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67080" y="3895560"/>
            <a:ext cx="2133720" cy="167652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36232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62320" y="289548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152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using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dient and the </a:t>
            </a:r>
            <a:r>
              <a:rPr b="0" i="1" lang="en-US" sz="30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43720" y="2382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2413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28702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34290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lace a point 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2320" y="301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5334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gives us the point (3,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09480" y="1371600"/>
                <a:ext cx="16002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219320" y="2286000"/>
                <a:ext cx="2491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457200" y="4307040"/>
            <a:ext cx="3733920" cy="938160"/>
            <a:chOff x="457200" y="4307040"/>
            <a:chExt cx="3733920" cy="938160"/>
          </a:xfrm>
        </p:grpSpPr>
        <p:sp>
          <p:nvSpPr>
            <p:cNvPr id="278" name=""/>
            <p:cNvSpPr/>
            <p:nvPr/>
          </p:nvSpPr>
          <p:spPr>
            <a:xfrm>
              <a:off x="457200" y="4419720"/>
              <a:ext cx="37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A gradient of     is a rise of 2 over a run of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341440" y="4307040"/>
                  <a:ext cx="2192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"/>
          <p:cNvSpPr/>
          <p:nvPr/>
        </p:nvSpPr>
        <p:spPr>
          <a:xfrm>
            <a:off x="5462640" y="3247920"/>
            <a:ext cx="1219320" cy="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267080" y="2285640"/>
            <a:ext cx="3048120" cy="160020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81960" y="2629080"/>
            <a:ext cx="0" cy="60948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2362320"/>
            <a:ext cx="609480" cy="53316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89548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Re-arranging equations to read the gradient and the </a:t>
            </a:r>
            <a:r>
              <a:rPr b="0" i="1" lang="en-US" sz="38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-intercept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9051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general form of a straight line is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362320" y="3029040"/>
                <a:ext cx="1523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304920" y="3048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3048120"/>
            <a:ext cx="41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Subtract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 from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921040" y="3657600"/>
                <a:ext cx="1536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876920" y="3549600"/>
            <a:ext cx="38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890800" y="4267080"/>
                <a:ext cx="1776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533520" y="5089680"/>
            <a:ext cx="5638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gradient is – 1  and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ntercept is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4286160"/>
            <a:ext cx="1371600" cy="53352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86480" y="514368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5600880"/>
            <a:ext cx="5335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1:14:57Z</dcterms:created>
  <dc:creator>Academic PowerPoint</dc:creator>
  <dc:description/>
  <dc:language>en-US</dc:language>
  <cp:lastModifiedBy>David Parnis</cp:lastModifiedBy>
  <cp:lastPrinted>2002-09-19T14:44:44Z</cp:lastPrinted>
  <dcterms:modified xsi:type="dcterms:W3CDTF">2004-11-08T05:26:49Z</dcterms:modified>
  <cp:revision>52</cp:revision>
  <dc:subject>Mathematics</dc:subject>
  <dc:title>Graphing Linear Functions</dc:title>
</cp:coreProperties>
</file>